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389-10FF-4CD8-95CB-A746B4F3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944-EA93-4C27-99CB-0AC7E3D2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C81-CECB-4879-90EC-6AA7329E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04E-0A71-45BE-BAB6-4BECE565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1BB7-3EA1-4E42-967F-4FE75EE0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16A3-574F-42EC-9B04-D999A4F0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24C9-A459-45E0-9997-3959733A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E423-C421-4D34-9C30-CA7A9088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A314-CCBF-418B-B093-11EAA786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5C47-F730-4674-8400-BC611CA1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2982-0ECC-4EFB-8673-D9BA7F00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C5A-4E32-425A-A5E4-01D0E916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AE79-3895-46E4-944B-725F88BE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60F5-166F-4AAA-B1A8-D1D06FC7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01E7-3231-4CA5-A84D-6B627A7E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8D3C-1DFB-430F-8BD3-4492D26B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065C-9C45-45EB-ACEA-87FB118C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36B-2AD7-4149-82F3-53D7FB3E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DE5-7AAD-4137-8DCC-4BD6BA9E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BCA-3B62-44CF-B8F1-93A4DA55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F71-6B12-451D-B5F0-8B1971DA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A29-E7C5-4140-B38C-184F9408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481-F9BD-459B-858C-170C3C30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233-48FF-46C3-BE61-9A1ABF26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18EE-082A-4EC6-8A53-50DD08ED8F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2FDD-A4F5-4134-B799-EDC79BCEEA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2859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2920" y="1789200"/>
            <a:ext cx="86439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ησους λεγει αὐτῃ∙ Εἰμι ἡ ζωη και ἡ εἰρην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Πετρος λεγει αὐτῳ∙ Εἶ ὁ Χριστος ὁ υἱος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αμβανω την του θεου βασιλειαω ὡς τεκν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ὐκ ἐστιν θεος νεκρ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ο δαιμονιον λεγει∙ Ἰησους, εἶ ὁ ἁγιος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βλεπει θεου τον καινον οὐρανον και την καινην γη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214200" y="1343160"/>
            <a:ext cx="80726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γαπητοι, νομον ἑτερον οὐ διδασκω ἀλλα τον ἀπ’ ἀρχης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ἡ μεγαλη φωνη ἐκ των οὐρανων λεγει∙ Εἶ ὁ υἱος μου [</a:t>
            </a:r>
            <a:r>
              <a:rPr b="0" i="1" lang="en-GB" sz="2600" spc="-1" strike="noStrike">
                <a:solidFill>
                  <a:srgbClr val="ffffff"/>
                </a:solidFill>
                <a:latin typeface="Gentium"/>
              </a:rPr>
              <a:t>my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ἀγαπητ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days are evil and evil people do evil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law is just, but it is the Gospel’s moment (tim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ach one has his own hou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hrist is the head of the chur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71280" y="1527120"/>
            <a:ext cx="909828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εγει Ἰησους ἐν τῃ συναγωγῃ∙ Ἡ βασιλεια των οὐρανων οὐκ ἐστιν ἐκ του κοσμ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εἰσιν ψυχαι πολλαι των ἀγαθων και των δικαιων ἐν τῃ οἰκιᾳ του αἰωνιου θε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ἡ ἀγαπη του θεου ἐστιν ἐν ταις καρδιαις αὐτων δια του Χριστ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ἐστιν αἰωνιος εἰρηνη τοις πιστοι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θεος ἀγαπη ἐστιν∙ ἀνθρωποι της ἀγαπης ἐν τῳ θεῳ εἰσιν και ὁ θεος ἐν αὐτοις ἐστι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τοις Ἰουδαιοις τοις ἐν Ἱεροσολυμοις λεγει ὁ Ἰησου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857680" y="11700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1280" y="1405080"/>
            <a:ext cx="9144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εἰ τα του κοσμου ἐργα πονηρα ἐστιν, πως οἱ πιστοι ποιουσι τα δικαια και τα καλα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γουσιν τον τυφλον προς τους Ἰουδαιους ἐν τῳ ἱερω τῳ μεγαλ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e are sons of 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You (pl.) are alone in Galil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aithful Jews are teaching the law of pe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es God have a new holy peopl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5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3000240" y="11811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428760" y="1544760"/>
            <a:ext cx="8143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hew 1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αθὸς ἄνθρωπος ἐκ τοῦ ἀγαθοῦ θησαυροῦ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treasure box/storeroom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άλλει ἀγαθά, καὶ ὁ πονηροῦ θησαυροῦ ἐκβαλλει πονηρ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428760" y="4106880"/>
            <a:ext cx="8143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Corinthians 13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χάρι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grace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ῦ κυρίου Ἰησοῦ Χριστοῦ καὶ ἡ ἀγάπη τοῦ θεοῦ καὶ ἡ κοινωνί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fellowship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ῦ ἁγίου πνεύματο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spirit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τὰ πάντω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all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μῶ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you (pl.)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03:31Z</dcterms:created>
  <dc:creator>Sarah</dc:creator>
  <dc:description/>
  <dc:language>en-US</dc:language>
  <cp:lastModifiedBy>Sarah</cp:lastModifiedBy>
  <dcterms:modified xsi:type="dcterms:W3CDTF">2008-09-07T14:18:27Z</dcterms:modified>
  <cp:revision>18</cp:revision>
  <dc:subject/>
  <dc:title>Slide 1</dc:title>
</cp:coreProperties>
</file>